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01DE-9687-40F1-AE21-24F14DF83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B479-61E4-4961-B3D4-ED8554A56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9F04-38BF-4E98-B09D-D8C0380A8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1100-2E99-44A8-8B43-100306FB84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0BF4-CEA8-40AE-B850-24C7995036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C2B3-DC8C-485B-A5C9-8B337B060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B2AF-883F-4B63-8447-E96AD8D83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F9A3-58DA-48A3-A02E-7CB03D353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A7A1-43BB-4888-9DD8-09093866A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628A-5798-4CB4-B291-20090DAEA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A143-5DE5-4A68-9A84-AE46DF6AD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7F84-970A-48C8-85A4-B95D65C2F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4F77-C807-4466-A8BD-8C8886AE8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55840" indent="-54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019240" indent="-647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50960" indent="-722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50960" indent="-722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50960" indent="-722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jpe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image" Target="../media/image80.jpeg"/><Relationship Id="rId13" Type="http://schemas.openxmlformats.org/officeDocument/2006/relationships/image" Target="../media/image81.jpeg"/><Relationship Id="rId14" Type="http://schemas.openxmlformats.org/officeDocument/2006/relationships/image" Target="../media/image82.jpe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4040" y="260280"/>
            <a:ext cx="668808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5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Romeo&amp;Julie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" y="2552760"/>
            <a:ext cx="4535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500" spc="-1" strike="noStrike">
                <a:solidFill>
                  <a:srgbClr val="d23acf"/>
                </a:solidFill>
                <a:latin typeface="Dyslexie Regular"/>
                <a:ea typeface="Dyslexie Regular"/>
              </a:rPr>
              <a:t>- </a:t>
            </a:r>
            <a:r>
              <a:rPr b="0" lang="en-US" sz="2100" spc="-1" strike="noStrike">
                <a:solidFill>
                  <a:srgbClr val="d23acf"/>
                </a:solidFill>
                <a:latin typeface="Dyslexie Regular"/>
                <a:ea typeface="Dyslexie Regular"/>
              </a:rPr>
              <a:t>What I already kn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100" spc="-1" strike="noStrike">
                <a:solidFill>
                  <a:srgbClr val="d23acf"/>
                </a:solidFill>
                <a:latin typeface="Dyslexie Regular"/>
                <a:ea typeface="Dyslexie Regular"/>
              </a:rPr>
              <a:t>- What I want to kn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100" spc="-1" strike="noStrike">
                <a:solidFill>
                  <a:srgbClr val="d23acf"/>
                </a:solidFill>
                <a:latin typeface="Dyslexie Regular"/>
                <a:ea typeface="Dyslexie Regular"/>
              </a:rPr>
              <a:t>- What I lear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asted-image.tif" descr=""/>
          <p:cNvPicPr/>
          <p:nvPr/>
        </p:nvPicPr>
        <p:blipFill>
          <a:blip r:embed="rId1"/>
          <a:stretch/>
        </p:blipFill>
        <p:spPr>
          <a:xfrm>
            <a:off x="190440" y="4289400"/>
            <a:ext cx="1817640" cy="244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23600" y="6095880"/>
            <a:ext cx="2076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5e3ecf"/>
                </a:solidFill>
                <a:latin typeface="Dyslexie Regular"/>
                <a:ea typeface="Dyslexie Regular"/>
              </a:rPr>
              <a:t>Miss Angela and her dwar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3040" y="324000"/>
            <a:ext cx="42832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US" sz="32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GIRLS DO IT B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90320" y="1875960"/>
            <a:ext cx="847404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Old Capulet has a beautiful daughter: Juli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is thirt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is very smart and she spends a lot of time with her Nurse, who teaches her a lot about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knows what she w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Especially she knows she doesn’t wa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arry Count Pa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 night of the party her parents want her to meet Par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is not happy abou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asted-image.tif" descr=""/>
          <p:cNvPicPr/>
          <p:nvPr/>
        </p:nvPicPr>
        <p:blipFill>
          <a:blip r:embed="rId1"/>
          <a:stretch/>
        </p:blipFill>
        <p:spPr>
          <a:xfrm>
            <a:off x="5489640" y="84240"/>
            <a:ext cx="3043080" cy="1931760"/>
          </a:xfrm>
          <a:prstGeom prst="rect">
            <a:avLst/>
          </a:prstGeom>
          <a:ln w="0">
            <a:noFill/>
          </a:ln>
        </p:spPr>
      </p:pic>
      <p:pic>
        <p:nvPicPr>
          <p:cNvPr id="75" name="pasted-image.tif" descr=""/>
          <p:cNvPicPr/>
          <p:nvPr/>
        </p:nvPicPr>
        <p:blipFill>
          <a:blip r:embed="rId2"/>
          <a:stretch/>
        </p:blipFill>
        <p:spPr>
          <a:xfrm>
            <a:off x="4514760" y="5813280"/>
            <a:ext cx="677880" cy="878040"/>
          </a:xfrm>
          <a:prstGeom prst="rect">
            <a:avLst/>
          </a:prstGeom>
          <a:ln w="0">
            <a:noFill/>
          </a:ln>
        </p:spPr>
      </p:pic>
      <p:pic>
        <p:nvPicPr>
          <p:cNvPr id="76" name="pasted-image.tif" descr=""/>
          <p:cNvPicPr/>
          <p:nvPr/>
        </p:nvPicPr>
        <p:blipFill>
          <a:blip r:embed="rId3"/>
          <a:stretch/>
        </p:blipFill>
        <p:spPr>
          <a:xfrm>
            <a:off x="7151760" y="4049640"/>
            <a:ext cx="1554120" cy="11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32240" y="-11160"/>
            <a:ext cx="484668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ARNING! Montagues around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3920" y="2168640"/>
            <a:ext cx="528480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’s cousin, TYBALT, warns Old Capulet: Some Montagues are at the party without any invitati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Capulet says Tybalt to be calm and enjoy the par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asted-image.tif" descr=""/>
          <p:cNvPicPr/>
          <p:nvPr/>
        </p:nvPicPr>
        <p:blipFill>
          <a:blip r:embed="rId1"/>
          <a:stretch/>
        </p:blipFill>
        <p:spPr>
          <a:xfrm>
            <a:off x="349200" y="88920"/>
            <a:ext cx="2762280" cy="1832040"/>
          </a:xfrm>
          <a:prstGeom prst="rect">
            <a:avLst/>
          </a:prstGeom>
          <a:ln w="0">
            <a:noFill/>
          </a:ln>
        </p:spPr>
      </p:pic>
      <p:pic>
        <p:nvPicPr>
          <p:cNvPr id="80" name="pasted-image.tif" descr=""/>
          <p:cNvPicPr/>
          <p:nvPr/>
        </p:nvPicPr>
        <p:blipFill>
          <a:blip r:embed="rId2"/>
          <a:stretch/>
        </p:blipFill>
        <p:spPr>
          <a:xfrm>
            <a:off x="5838840" y="33987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383840" y="85680"/>
            <a:ext cx="67662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US" sz="2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O Romeo, Rome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78040" y="70344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At the party, Romeo and Juliet mee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32040" y="1895400"/>
            <a:ext cx="2579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y fall in love at once (so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53000" y="2455920"/>
            <a:ext cx="32860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is sad that Juliet belongs to his enemies’ family. But he wants to run the risk. He loves h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98600" y="4203720"/>
            <a:ext cx="4070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, on her balcony, declares her love for Romeo. He listens under her balcony and, after Juliet’s suggestion, they decide to mar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asted-image.tif" descr=""/>
          <p:cNvPicPr/>
          <p:nvPr/>
        </p:nvPicPr>
        <p:blipFill>
          <a:blip r:embed="rId1"/>
          <a:stretch/>
        </p:blipFill>
        <p:spPr>
          <a:xfrm>
            <a:off x="5310360" y="709560"/>
            <a:ext cx="3738240" cy="1354320"/>
          </a:xfrm>
          <a:prstGeom prst="rect">
            <a:avLst/>
          </a:prstGeom>
          <a:ln w="0">
            <a:noFill/>
          </a:ln>
        </p:spPr>
      </p:pic>
      <p:pic>
        <p:nvPicPr>
          <p:cNvPr id="87" name="pasted-image.tif" descr=""/>
          <p:cNvPicPr/>
          <p:nvPr/>
        </p:nvPicPr>
        <p:blipFill>
          <a:blip r:embed="rId2"/>
          <a:stretch/>
        </p:blipFill>
        <p:spPr>
          <a:xfrm>
            <a:off x="147600" y="1889280"/>
            <a:ext cx="1731960" cy="1079280"/>
          </a:xfrm>
          <a:prstGeom prst="rect">
            <a:avLst/>
          </a:prstGeom>
          <a:ln w="0">
            <a:noFill/>
          </a:ln>
        </p:spPr>
      </p:pic>
      <p:pic>
        <p:nvPicPr>
          <p:cNvPr id="88" name="pasted-image.tif" descr=""/>
          <p:cNvPicPr/>
          <p:nvPr/>
        </p:nvPicPr>
        <p:blipFill>
          <a:blip r:embed="rId3"/>
          <a:stretch/>
        </p:blipFill>
        <p:spPr>
          <a:xfrm>
            <a:off x="7120080" y="2455920"/>
            <a:ext cx="173196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asted-image.tif" descr=""/>
          <p:cNvPicPr/>
          <p:nvPr/>
        </p:nvPicPr>
        <p:blipFill>
          <a:blip r:embed="rId4"/>
          <a:stretch/>
        </p:blipFill>
        <p:spPr>
          <a:xfrm>
            <a:off x="66600" y="3836880"/>
            <a:ext cx="2163960" cy="2938680"/>
          </a:xfrm>
          <a:prstGeom prst="rect">
            <a:avLst/>
          </a:prstGeom>
          <a:ln w="0">
            <a:noFill/>
          </a:ln>
        </p:spPr>
      </p:pic>
      <p:pic>
        <p:nvPicPr>
          <p:cNvPr id="90" name="pasted-image.tif" descr=""/>
          <p:cNvPicPr/>
          <p:nvPr/>
        </p:nvPicPr>
        <p:blipFill>
          <a:blip r:embed="rId5"/>
          <a:stretch/>
        </p:blipFill>
        <p:spPr>
          <a:xfrm>
            <a:off x="6488280" y="4792680"/>
            <a:ext cx="13824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86920" y="90000"/>
            <a:ext cx="676764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US" sz="2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A SECRET 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93720" y="946080"/>
            <a:ext cx="59533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 next day, Romeo and Juliet go to Friar Lawrence, to get married. The Nurse goes with them, to be the witnes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92680" y="2825640"/>
            <a:ext cx="50576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iar Lawrence is not sure about a sudden marriag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agrees        to marry them because he hopes to bring peace to the famil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asted-image.tif" descr=""/>
          <p:cNvPicPr/>
          <p:nvPr/>
        </p:nvPicPr>
        <p:blipFill>
          <a:blip r:embed="rId1"/>
          <a:stretch/>
        </p:blipFill>
        <p:spPr>
          <a:xfrm>
            <a:off x="7520040" y="-96840"/>
            <a:ext cx="1731960" cy="1730520"/>
          </a:xfrm>
          <a:prstGeom prst="rect">
            <a:avLst/>
          </a:prstGeom>
          <a:ln w="0">
            <a:noFill/>
          </a:ln>
        </p:spPr>
      </p:pic>
      <p:pic>
        <p:nvPicPr>
          <p:cNvPr id="95" name="pasted-image.tif" descr=""/>
          <p:cNvPicPr/>
          <p:nvPr/>
        </p:nvPicPr>
        <p:blipFill>
          <a:blip r:embed="rId2"/>
          <a:stretch/>
        </p:blipFill>
        <p:spPr>
          <a:xfrm>
            <a:off x="208080" y="4451400"/>
            <a:ext cx="3705120" cy="1562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26120" y="3689280"/>
            <a:ext cx="23907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5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bu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asted-image.tif" descr=""/>
          <p:cNvPicPr/>
          <p:nvPr/>
        </p:nvPicPr>
        <p:blipFill>
          <a:blip r:embed="rId3"/>
          <a:stretch/>
        </p:blipFill>
        <p:spPr>
          <a:xfrm>
            <a:off x="1785960" y="2560680"/>
            <a:ext cx="1541520" cy="1731960"/>
          </a:xfrm>
          <a:prstGeom prst="rect">
            <a:avLst/>
          </a:prstGeom>
          <a:ln w="0">
            <a:noFill/>
          </a:ln>
        </p:spPr>
      </p:pic>
      <p:pic>
        <p:nvPicPr>
          <p:cNvPr id="98" name="pasted-image.tif" descr=""/>
          <p:cNvPicPr/>
          <p:nvPr/>
        </p:nvPicPr>
        <p:blipFill>
          <a:blip r:embed="rId4"/>
          <a:stretch/>
        </p:blipFill>
        <p:spPr>
          <a:xfrm>
            <a:off x="5635800" y="4562640"/>
            <a:ext cx="753840" cy="671400"/>
          </a:xfrm>
          <a:prstGeom prst="rect">
            <a:avLst/>
          </a:prstGeom>
          <a:ln w="0">
            <a:noFill/>
          </a:ln>
        </p:spPr>
      </p:pic>
      <p:pic>
        <p:nvPicPr>
          <p:cNvPr id="99" name="pasted-image.tif" descr=""/>
          <p:cNvPicPr/>
          <p:nvPr/>
        </p:nvPicPr>
        <p:blipFill>
          <a:blip r:embed="rId5"/>
          <a:stretch/>
        </p:blipFill>
        <p:spPr>
          <a:xfrm>
            <a:off x="-60480" y="743040"/>
            <a:ext cx="173052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asted-image.tif" descr=""/>
          <p:cNvPicPr/>
          <p:nvPr/>
        </p:nvPicPr>
        <p:blipFill>
          <a:blip r:embed="rId1"/>
          <a:stretch/>
        </p:blipFill>
        <p:spPr>
          <a:xfrm>
            <a:off x="743040" y="1314360"/>
            <a:ext cx="7199280" cy="4791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58320" y="395280"/>
            <a:ext cx="67676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US" sz="2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Tragedy is comi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920" y="146160"/>
            <a:ext cx="87296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A CURSE! A curse upon your families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1391760"/>
            <a:ext cx="4402080" cy="17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On his way back from the wedding, Romeo meets Tyb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ybalt wants to fight but Romeo refu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asted-image.tif" descr=""/>
          <p:cNvPicPr/>
          <p:nvPr/>
        </p:nvPicPr>
        <p:blipFill>
          <a:blip r:embed="rId1"/>
          <a:stretch/>
        </p:blipFill>
        <p:spPr>
          <a:xfrm>
            <a:off x="4927680" y="1936800"/>
            <a:ext cx="360684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41400" y="3360600"/>
            <a:ext cx="381960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ercutio fights against Tyba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tries to stop the fight and accidentally gets in the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29160" y="4935600"/>
            <a:ext cx="440208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ybalt stabs Mercutio to dea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ercutio screams against the two famili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2800" y="122040"/>
            <a:ext cx="4326120" cy="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34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BANISHED!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2360" y="1598760"/>
            <a:ext cx="6631200" cy="28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is shocked         and angry          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o he runs after Tybalt and kills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08400" y="4643280"/>
            <a:ext cx="545148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Prince Escalus banishes Rom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envolio invites Romeo to leave to Mantua, so that the Prince of Verona can’t sentence him to d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asted-image.tif" descr=""/>
          <p:cNvPicPr/>
          <p:nvPr/>
        </p:nvPicPr>
        <p:blipFill>
          <a:blip r:embed="rId1"/>
          <a:stretch/>
        </p:blipFill>
        <p:spPr>
          <a:xfrm>
            <a:off x="7207200" y="114480"/>
            <a:ext cx="1746360" cy="1746000"/>
          </a:xfrm>
          <a:prstGeom prst="rect">
            <a:avLst/>
          </a:prstGeom>
          <a:ln w="0">
            <a:noFill/>
          </a:ln>
        </p:spPr>
      </p:pic>
      <p:pic>
        <p:nvPicPr>
          <p:cNvPr id="111" name="pasted-image.tif" descr=""/>
          <p:cNvPicPr/>
          <p:nvPr/>
        </p:nvPicPr>
        <p:blipFill>
          <a:blip r:embed="rId2"/>
          <a:stretch/>
        </p:blipFill>
        <p:spPr>
          <a:xfrm>
            <a:off x="2824200" y="1406520"/>
            <a:ext cx="876240" cy="920880"/>
          </a:xfrm>
          <a:prstGeom prst="rect">
            <a:avLst/>
          </a:prstGeom>
          <a:ln w="0">
            <a:noFill/>
          </a:ln>
        </p:spPr>
      </p:pic>
      <p:pic>
        <p:nvPicPr>
          <p:cNvPr id="112" name="pasted-image.tif" descr=""/>
          <p:cNvPicPr/>
          <p:nvPr/>
        </p:nvPicPr>
        <p:blipFill>
          <a:blip r:embed="rId3"/>
          <a:stretch/>
        </p:blipFill>
        <p:spPr>
          <a:xfrm>
            <a:off x="5216400" y="1400040"/>
            <a:ext cx="1297080" cy="920880"/>
          </a:xfrm>
          <a:prstGeom prst="rect">
            <a:avLst/>
          </a:prstGeom>
          <a:ln w="0">
            <a:noFill/>
          </a:ln>
        </p:spPr>
      </p:pic>
      <p:pic>
        <p:nvPicPr>
          <p:cNvPr id="113" name="pasted-image.tif" descr=""/>
          <p:cNvPicPr/>
          <p:nvPr/>
        </p:nvPicPr>
        <p:blipFill>
          <a:blip r:embed="rId4"/>
          <a:stretch/>
        </p:blipFill>
        <p:spPr>
          <a:xfrm>
            <a:off x="-93600" y="4332240"/>
            <a:ext cx="296208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3000" y="-54000"/>
            <a:ext cx="667548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3324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lang="en-US" sz="49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Hello, sadness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08320" y="112068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is sad for her cousin’s deat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2120" y="2433600"/>
            <a:ext cx="3490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is also sad because Romeo has to leave to Mantu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asted-image.tif" descr=""/>
          <p:cNvPicPr/>
          <p:nvPr/>
        </p:nvPicPr>
        <p:blipFill>
          <a:blip r:embed="rId1"/>
          <a:stretch/>
        </p:blipFill>
        <p:spPr>
          <a:xfrm>
            <a:off x="461880" y="4157640"/>
            <a:ext cx="2171880" cy="2067120"/>
          </a:xfrm>
          <a:prstGeom prst="rect">
            <a:avLst/>
          </a:prstGeom>
          <a:ln w="0">
            <a:noFill/>
          </a:ln>
        </p:spPr>
      </p:pic>
      <p:pic>
        <p:nvPicPr>
          <p:cNvPr id="118" name="pasted-image.tif" descr=""/>
          <p:cNvPicPr/>
          <p:nvPr/>
        </p:nvPicPr>
        <p:blipFill>
          <a:blip r:embed="rId2"/>
          <a:stretch/>
        </p:blipFill>
        <p:spPr>
          <a:xfrm>
            <a:off x="6508800" y="2473200"/>
            <a:ext cx="1733400" cy="1432080"/>
          </a:xfrm>
          <a:prstGeom prst="rect">
            <a:avLst/>
          </a:prstGeom>
          <a:ln w="0">
            <a:noFill/>
          </a:ln>
        </p:spPr>
      </p:pic>
      <p:pic>
        <p:nvPicPr>
          <p:cNvPr id="119" name="pasted-image.tif" descr=""/>
          <p:cNvPicPr/>
          <p:nvPr/>
        </p:nvPicPr>
        <p:blipFill>
          <a:blip r:embed="rId3"/>
          <a:stretch/>
        </p:blipFill>
        <p:spPr>
          <a:xfrm>
            <a:off x="2108160" y="774720"/>
            <a:ext cx="1548000" cy="1547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21080" y="4402080"/>
            <a:ext cx="3490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and she is sad because her father wants her to marry Count Pari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asted-image.tif" descr=""/>
          <p:cNvPicPr/>
          <p:nvPr/>
        </p:nvPicPr>
        <p:blipFill>
          <a:blip r:embed="rId4"/>
          <a:stretch/>
        </p:blipFill>
        <p:spPr>
          <a:xfrm>
            <a:off x="3979800" y="2338560"/>
            <a:ext cx="2262240" cy="1701720"/>
          </a:xfrm>
          <a:prstGeom prst="rect">
            <a:avLst/>
          </a:prstGeom>
          <a:ln w="0">
            <a:noFill/>
          </a:ln>
        </p:spPr>
      </p:pic>
      <p:pic>
        <p:nvPicPr>
          <p:cNvPr id="122" name="pasted-image.tif" descr=""/>
          <p:cNvPicPr/>
          <p:nvPr/>
        </p:nvPicPr>
        <p:blipFill>
          <a:blip r:embed="rId5"/>
          <a:stretch/>
        </p:blipFill>
        <p:spPr>
          <a:xfrm>
            <a:off x="6259680" y="4287960"/>
            <a:ext cx="223200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0120" y="9504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0" lang="en-US" sz="3700" spc="-1" strike="noStrike">
                <a:solidFill>
                  <a:srgbClr val="9900ff"/>
                </a:solidFill>
                <a:latin typeface="Dyslexie Regular"/>
                <a:ea typeface="Dyslexie Regular"/>
              </a:rPr>
              <a:t>Let’s say, Juliet is unlucky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sted-image.tif" descr=""/>
          <p:cNvPicPr/>
          <p:nvPr/>
        </p:nvPicPr>
        <p:blipFill>
          <a:blip r:embed="rId1"/>
          <a:stretch/>
        </p:blipFill>
        <p:spPr>
          <a:xfrm>
            <a:off x="5389560" y="3578400"/>
            <a:ext cx="3544920" cy="2652480"/>
          </a:xfrm>
          <a:prstGeom prst="rect">
            <a:avLst/>
          </a:prstGeom>
          <a:ln w="0">
            <a:noFill/>
          </a:ln>
        </p:spPr>
      </p:pic>
      <p:pic>
        <p:nvPicPr>
          <p:cNvPr id="125" name="pasted-image.tif" descr=""/>
          <p:cNvPicPr/>
          <p:nvPr/>
        </p:nvPicPr>
        <p:blipFill>
          <a:blip r:embed="rId2"/>
          <a:stretch/>
        </p:blipFill>
        <p:spPr>
          <a:xfrm>
            <a:off x="5448240" y="110016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126" name="pasted-image.tif" descr=""/>
          <p:cNvPicPr/>
          <p:nvPr/>
        </p:nvPicPr>
        <p:blipFill>
          <a:blip r:embed="rId3"/>
          <a:stretch/>
        </p:blipFill>
        <p:spPr>
          <a:xfrm>
            <a:off x="82440" y="1125360"/>
            <a:ext cx="5159520" cy="3865680"/>
          </a:xfrm>
          <a:prstGeom prst="rect">
            <a:avLst/>
          </a:prstGeom>
          <a:ln w="0">
            <a:noFill/>
          </a:ln>
        </p:spPr>
      </p:pic>
      <p:pic>
        <p:nvPicPr>
          <p:cNvPr id="127" name="pasted-image.tif" descr=""/>
          <p:cNvPicPr/>
          <p:nvPr/>
        </p:nvPicPr>
        <p:blipFill>
          <a:blip r:embed="rId4"/>
          <a:stretch/>
        </p:blipFill>
        <p:spPr>
          <a:xfrm>
            <a:off x="1908000" y="5145120"/>
            <a:ext cx="15066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49640" y="9000"/>
            <a:ext cx="5659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0" lang="en-US" sz="39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Just one night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880" y="85104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At least Romeo and Juliet can spend one night together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asted-image.tif" descr=""/>
          <p:cNvPicPr/>
          <p:nvPr/>
        </p:nvPicPr>
        <p:blipFill>
          <a:blip r:embed="rId1"/>
          <a:stretch/>
        </p:blipFill>
        <p:spPr>
          <a:xfrm>
            <a:off x="5315040" y="966960"/>
            <a:ext cx="3492360" cy="232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22520" y="4505400"/>
            <a:ext cx="3490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ut in the early morning, Romeo must run away to Mantua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asted-image.tif" descr=""/>
          <p:cNvPicPr/>
          <p:nvPr/>
        </p:nvPicPr>
        <p:blipFill>
          <a:blip r:embed="rId2"/>
          <a:stretch/>
        </p:blipFill>
        <p:spPr>
          <a:xfrm>
            <a:off x="241200" y="4121280"/>
            <a:ext cx="3175200" cy="2565360"/>
          </a:xfrm>
          <a:prstGeom prst="rect">
            <a:avLst/>
          </a:prstGeom>
          <a:ln w="0">
            <a:noFill/>
          </a:ln>
        </p:spPr>
      </p:pic>
      <p:pic>
        <p:nvPicPr>
          <p:cNvPr id="133" name="pasted-image.tif" descr=""/>
          <p:cNvPicPr/>
          <p:nvPr/>
        </p:nvPicPr>
        <p:blipFill>
          <a:blip r:embed="rId3"/>
          <a:stretch/>
        </p:blipFill>
        <p:spPr>
          <a:xfrm>
            <a:off x="6897600" y="4282920"/>
            <a:ext cx="1959120" cy="2198880"/>
          </a:xfrm>
          <a:prstGeom prst="rect">
            <a:avLst/>
          </a:prstGeom>
          <a:ln w="0">
            <a:noFill/>
          </a:ln>
        </p:spPr>
      </p:pic>
      <p:pic>
        <p:nvPicPr>
          <p:cNvPr id="134" name="pasted-image.tif" descr=""/>
          <p:cNvPicPr/>
          <p:nvPr/>
        </p:nvPicPr>
        <p:blipFill>
          <a:blip r:embed="rId4"/>
          <a:stretch/>
        </p:blipFill>
        <p:spPr>
          <a:xfrm>
            <a:off x="2198520" y="2222640"/>
            <a:ext cx="304812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85400" y="813960"/>
            <a:ext cx="846612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A TRAGE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ritten by William Shakespe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It is a tragedy of L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illiam Shakespeare is the most     important English author!!!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81000" y="146160"/>
            <a:ext cx="66470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3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H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asted-image.tif" descr=""/>
          <p:cNvPicPr/>
          <p:nvPr/>
        </p:nvPicPr>
        <p:blipFill>
          <a:blip r:embed="rId1"/>
          <a:stretch/>
        </p:blipFill>
        <p:spPr>
          <a:xfrm>
            <a:off x="6962760" y="4289400"/>
            <a:ext cx="2031840" cy="2394000"/>
          </a:xfrm>
          <a:prstGeom prst="rect">
            <a:avLst/>
          </a:prstGeom>
          <a:ln w="0">
            <a:noFill/>
          </a:ln>
        </p:spPr>
      </p:pic>
      <p:pic>
        <p:nvPicPr>
          <p:cNvPr id="46" name="pasted-image.tif" descr=""/>
          <p:cNvPicPr/>
          <p:nvPr/>
        </p:nvPicPr>
        <p:blipFill>
          <a:blip r:embed="rId2"/>
          <a:stretch/>
        </p:blipFill>
        <p:spPr>
          <a:xfrm>
            <a:off x="7021440" y="192240"/>
            <a:ext cx="1913040" cy="1811160"/>
          </a:xfrm>
          <a:prstGeom prst="rect">
            <a:avLst/>
          </a:prstGeom>
          <a:ln w="0">
            <a:noFill/>
          </a:ln>
        </p:spPr>
      </p:pic>
      <p:pic>
        <p:nvPicPr>
          <p:cNvPr id="47" name="pasted-image.tif" descr=""/>
          <p:cNvPicPr/>
          <p:nvPr/>
        </p:nvPicPr>
        <p:blipFill>
          <a:blip r:embed="rId3"/>
          <a:stretch/>
        </p:blipFill>
        <p:spPr>
          <a:xfrm>
            <a:off x="938160" y="2927520"/>
            <a:ext cx="250344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9480" y="20160"/>
            <a:ext cx="47685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31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To die or to sleep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6520" y="176832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goes to Friar Lawrence for advi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99040" y="315756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iar Lawrence gives Juliet a special type of pois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84240" y="514656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he will seem dead, but she will be just asleep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asted-image.tif" descr=""/>
          <p:cNvPicPr/>
          <p:nvPr/>
        </p:nvPicPr>
        <p:blipFill>
          <a:blip r:embed="rId1"/>
          <a:stretch/>
        </p:blipFill>
        <p:spPr>
          <a:xfrm>
            <a:off x="101520" y="58680"/>
            <a:ext cx="1798560" cy="1433520"/>
          </a:xfrm>
          <a:prstGeom prst="rect">
            <a:avLst/>
          </a:prstGeom>
          <a:ln w="0">
            <a:noFill/>
          </a:ln>
        </p:spPr>
      </p:pic>
      <p:pic>
        <p:nvPicPr>
          <p:cNvPr id="140" name="pasted-image.tif" descr=""/>
          <p:cNvPicPr/>
          <p:nvPr/>
        </p:nvPicPr>
        <p:blipFill>
          <a:blip r:embed="rId2"/>
          <a:stretch/>
        </p:blipFill>
        <p:spPr>
          <a:xfrm>
            <a:off x="7510320" y="4956120"/>
            <a:ext cx="1308240" cy="1325520"/>
          </a:xfrm>
          <a:prstGeom prst="rect">
            <a:avLst/>
          </a:prstGeom>
          <a:ln w="0">
            <a:noFill/>
          </a:ln>
        </p:spPr>
      </p:pic>
      <p:pic>
        <p:nvPicPr>
          <p:cNvPr id="141" name="pasted-image.tif" descr=""/>
          <p:cNvPicPr/>
          <p:nvPr/>
        </p:nvPicPr>
        <p:blipFill>
          <a:blip r:embed="rId3"/>
          <a:stretch/>
        </p:blipFill>
        <p:spPr>
          <a:xfrm>
            <a:off x="4368960" y="1384200"/>
            <a:ext cx="2420640" cy="1625760"/>
          </a:xfrm>
          <a:prstGeom prst="rect">
            <a:avLst/>
          </a:prstGeom>
          <a:ln w="0">
            <a:noFill/>
          </a:ln>
        </p:spPr>
      </p:pic>
      <p:pic>
        <p:nvPicPr>
          <p:cNvPr id="142" name="pasted-image.tif" descr=""/>
          <p:cNvPicPr/>
          <p:nvPr/>
        </p:nvPicPr>
        <p:blipFill>
          <a:blip r:embed="rId4"/>
          <a:stretch/>
        </p:blipFill>
        <p:spPr>
          <a:xfrm>
            <a:off x="7161120" y="101520"/>
            <a:ext cx="1798560" cy="1347840"/>
          </a:xfrm>
          <a:prstGeom prst="rect">
            <a:avLst/>
          </a:prstGeom>
          <a:ln w="0">
            <a:noFill/>
          </a:ln>
        </p:spPr>
      </p:pic>
      <p:pic>
        <p:nvPicPr>
          <p:cNvPr id="143" name="pasted-image.tif" descr=""/>
          <p:cNvPicPr/>
          <p:nvPr/>
        </p:nvPicPr>
        <p:blipFill>
          <a:blip r:embed="rId5"/>
          <a:stretch/>
        </p:blipFill>
        <p:spPr>
          <a:xfrm>
            <a:off x="641520" y="2784600"/>
            <a:ext cx="2071440" cy="2073240"/>
          </a:xfrm>
          <a:prstGeom prst="rect">
            <a:avLst/>
          </a:prstGeom>
          <a:ln w="0">
            <a:noFill/>
          </a:ln>
        </p:spPr>
      </p:pic>
      <p:pic>
        <p:nvPicPr>
          <p:cNvPr id="144" name="pasted-image.tif" descr=""/>
          <p:cNvPicPr/>
          <p:nvPr/>
        </p:nvPicPr>
        <p:blipFill>
          <a:blip r:embed="rId6"/>
          <a:stretch/>
        </p:blipFill>
        <p:spPr>
          <a:xfrm>
            <a:off x="3105000" y="3321000"/>
            <a:ext cx="1603440" cy="1514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H="1">
            <a:off x="4253040" y="4302000"/>
            <a:ext cx="1962000" cy="0"/>
          </a:xfrm>
          <a:prstGeom prst="line">
            <a:avLst/>
          </a:prstGeom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asted-image.tif" descr=""/>
          <p:cNvPicPr/>
          <p:nvPr/>
        </p:nvPicPr>
        <p:blipFill>
          <a:blip r:embed="rId7"/>
          <a:stretch/>
        </p:blipFill>
        <p:spPr>
          <a:xfrm>
            <a:off x="4552920" y="4732200"/>
            <a:ext cx="287964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35040" y="109080"/>
            <a:ext cx="47689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41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A smart plan!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25640" y="128592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iar Lawrence plans to send a message to Romeo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68760" y="3324240"/>
            <a:ext cx="547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…</a:t>
            </a: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o that he can come back to Verona and meet Juliet when she wakes up in her family’s tomb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5600" y="526104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n they can leave Verona and be togeth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asted-image.tif" descr=""/>
          <p:cNvPicPr/>
          <p:nvPr/>
        </p:nvPicPr>
        <p:blipFill>
          <a:blip r:embed="rId1"/>
          <a:stretch/>
        </p:blipFill>
        <p:spPr>
          <a:xfrm>
            <a:off x="6541920" y="790560"/>
            <a:ext cx="2082960" cy="2336760"/>
          </a:xfrm>
          <a:prstGeom prst="rect">
            <a:avLst/>
          </a:prstGeom>
          <a:ln w="0">
            <a:noFill/>
          </a:ln>
        </p:spPr>
      </p:pic>
      <p:pic>
        <p:nvPicPr>
          <p:cNvPr id="152" name="pasted-image.tif" descr=""/>
          <p:cNvPicPr/>
          <p:nvPr/>
        </p:nvPicPr>
        <p:blipFill>
          <a:blip r:embed="rId2"/>
          <a:stretch/>
        </p:blipFill>
        <p:spPr>
          <a:xfrm>
            <a:off x="825480" y="11160"/>
            <a:ext cx="2082960" cy="1601640"/>
          </a:xfrm>
          <a:prstGeom prst="rect">
            <a:avLst/>
          </a:prstGeom>
          <a:ln w="0">
            <a:noFill/>
          </a:ln>
        </p:spPr>
      </p:pic>
      <p:pic>
        <p:nvPicPr>
          <p:cNvPr id="153" name="pasted-image.tif" descr=""/>
          <p:cNvPicPr/>
          <p:nvPr/>
        </p:nvPicPr>
        <p:blipFill>
          <a:blip r:embed="rId3"/>
          <a:stretch/>
        </p:blipFill>
        <p:spPr>
          <a:xfrm>
            <a:off x="5743440" y="4700520"/>
            <a:ext cx="2911680" cy="2016360"/>
          </a:xfrm>
          <a:prstGeom prst="rect">
            <a:avLst/>
          </a:prstGeom>
          <a:ln w="0">
            <a:noFill/>
          </a:ln>
        </p:spPr>
      </p:pic>
      <p:pic>
        <p:nvPicPr>
          <p:cNvPr id="154" name="pasted-image.tif" descr=""/>
          <p:cNvPicPr/>
          <p:nvPr/>
        </p:nvPicPr>
        <p:blipFill>
          <a:blip r:embed="rId4"/>
          <a:stretch/>
        </p:blipFill>
        <p:spPr>
          <a:xfrm>
            <a:off x="184320" y="2755800"/>
            <a:ext cx="3593880" cy="22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4320" y="95400"/>
            <a:ext cx="80503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Dyslexie Regular"/>
                <a:ea typeface="Dyslexie Regular"/>
              </a:rPr>
              <a:t>Think about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asted-image.tif" descr=""/>
          <p:cNvPicPr/>
          <p:nvPr/>
        </p:nvPicPr>
        <p:blipFill>
          <a:blip r:embed="rId1"/>
          <a:stretch/>
        </p:blipFill>
        <p:spPr>
          <a:xfrm>
            <a:off x="111240" y="1028880"/>
            <a:ext cx="5011560" cy="3759120"/>
          </a:xfrm>
          <a:prstGeom prst="rect">
            <a:avLst/>
          </a:prstGeom>
          <a:ln w="0">
            <a:noFill/>
          </a:ln>
        </p:spPr>
      </p:pic>
      <p:pic>
        <p:nvPicPr>
          <p:cNvPr id="157" name="pasted-image.tif" descr=""/>
          <p:cNvPicPr/>
          <p:nvPr/>
        </p:nvPicPr>
        <p:blipFill>
          <a:blip r:embed="rId2"/>
          <a:stretch/>
        </p:blipFill>
        <p:spPr>
          <a:xfrm>
            <a:off x="5105520" y="1009800"/>
            <a:ext cx="3809880" cy="2133360"/>
          </a:xfrm>
          <a:prstGeom prst="rect">
            <a:avLst/>
          </a:prstGeom>
          <a:ln w="0">
            <a:noFill/>
          </a:ln>
        </p:spPr>
      </p:pic>
      <p:pic>
        <p:nvPicPr>
          <p:cNvPr id="158" name="pasted-image.tif" descr=""/>
          <p:cNvPicPr/>
          <p:nvPr/>
        </p:nvPicPr>
        <p:blipFill>
          <a:blip r:embed="rId3"/>
          <a:stretch/>
        </p:blipFill>
        <p:spPr>
          <a:xfrm>
            <a:off x="6172200" y="3143160"/>
            <a:ext cx="2540160" cy="2857680"/>
          </a:xfrm>
          <a:prstGeom prst="rect">
            <a:avLst/>
          </a:prstGeom>
          <a:ln w="0">
            <a:noFill/>
          </a:ln>
        </p:spPr>
      </p:pic>
      <p:pic>
        <p:nvPicPr>
          <p:cNvPr id="159" name="pasted-image.tif" descr=""/>
          <p:cNvPicPr/>
          <p:nvPr/>
        </p:nvPicPr>
        <p:blipFill>
          <a:blip r:embed="rId4"/>
          <a:stretch/>
        </p:blipFill>
        <p:spPr>
          <a:xfrm>
            <a:off x="1631880" y="4819680"/>
            <a:ext cx="27115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4200" spc="-1" strike="noStrike">
                <a:solidFill>
                  <a:srgbClr val="9900ff"/>
                </a:solidFill>
                <a:latin typeface="Dyslexie Regular"/>
                <a:ea typeface="Dyslexie Regular"/>
              </a:rPr>
              <a:t>Come on, it’s a tragedy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asted-image.tif" descr=""/>
          <p:cNvPicPr/>
          <p:nvPr/>
        </p:nvPicPr>
        <p:blipFill>
          <a:blip r:embed="rId1"/>
          <a:stretch/>
        </p:blipFill>
        <p:spPr>
          <a:xfrm>
            <a:off x="90360" y="1246320"/>
            <a:ext cx="5008680" cy="2608200"/>
          </a:xfrm>
          <a:prstGeom prst="rect">
            <a:avLst/>
          </a:prstGeom>
          <a:ln w="0">
            <a:noFill/>
          </a:ln>
        </p:spPr>
      </p:pic>
      <p:pic>
        <p:nvPicPr>
          <p:cNvPr id="162" name="pasted-image.tif" descr=""/>
          <p:cNvPicPr/>
          <p:nvPr/>
        </p:nvPicPr>
        <p:blipFill>
          <a:blip r:embed="rId2"/>
          <a:stretch/>
        </p:blipFill>
        <p:spPr>
          <a:xfrm>
            <a:off x="5734080" y="1434960"/>
            <a:ext cx="2603520" cy="1981440"/>
          </a:xfrm>
          <a:prstGeom prst="rect">
            <a:avLst/>
          </a:prstGeom>
          <a:ln w="0">
            <a:noFill/>
          </a:ln>
        </p:spPr>
      </p:pic>
      <p:pic>
        <p:nvPicPr>
          <p:cNvPr id="163" name="pasted-image.tif" descr=""/>
          <p:cNvPicPr/>
          <p:nvPr/>
        </p:nvPicPr>
        <p:blipFill>
          <a:blip r:embed="rId3"/>
          <a:stretch/>
        </p:blipFill>
        <p:spPr>
          <a:xfrm>
            <a:off x="4241880" y="3930480"/>
            <a:ext cx="4616280" cy="2608560"/>
          </a:xfrm>
          <a:prstGeom prst="rect">
            <a:avLst/>
          </a:prstGeom>
          <a:ln w="0">
            <a:noFill/>
          </a:ln>
        </p:spPr>
      </p:pic>
      <p:pic>
        <p:nvPicPr>
          <p:cNvPr id="164" name="pasted-image.tif" descr=""/>
          <p:cNvPicPr/>
          <p:nvPr/>
        </p:nvPicPr>
        <p:blipFill>
          <a:blip r:embed="rId4"/>
          <a:stretch/>
        </p:blipFill>
        <p:spPr>
          <a:xfrm>
            <a:off x="539640" y="3976560"/>
            <a:ext cx="32385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19480" y="20160"/>
            <a:ext cx="47685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hat a me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9760" y="955800"/>
            <a:ext cx="41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follows her part of the plan but something goes very wrong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48120" y="3330720"/>
            <a:ext cx="4902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iar Lawrence’s message never makes it to Rome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2120" y="5248440"/>
            <a:ext cx="34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Instead, Romeo hears that Juliet is dea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asted-image.tif" descr=""/>
          <p:cNvPicPr/>
          <p:nvPr/>
        </p:nvPicPr>
        <p:blipFill>
          <a:blip r:embed="rId1"/>
          <a:stretch/>
        </p:blipFill>
        <p:spPr>
          <a:xfrm>
            <a:off x="4603680" y="866880"/>
            <a:ext cx="2281320" cy="2280960"/>
          </a:xfrm>
          <a:prstGeom prst="rect">
            <a:avLst/>
          </a:prstGeom>
          <a:ln w="0">
            <a:noFill/>
          </a:ln>
        </p:spPr>
      </p:pic>
      <p:pic>
        <p:nvPicPr>
          <p:cNvPr id="170" name="pasted-image.tif" descr=""/>
          <p:cNvPicPr/>
          <p:nvPr/>
        </p:nvPicPr>
        <p:blipFill>
          <a:blip r:embed="rId2"/>
          <a:stretch/>
        </p:blipFill>
        <p:spPr>
          <a:xfrm>
            <a:off x="219240" y="2698920"/>
            <a:ext cx="3822480" cy="2120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 flipV="1">
            <a:off x="2209320" y="3449520"/>
            <a:ext cx="2644920" cy="424080"/>
          </a:xfrm>
          <a:prstGeom prst="line">
            <a:avLst/>
          </a:prstGeom>
          <a:ln w="2556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asted-image.tif" descr=""/>
          <p:cNvPicPr/>
          <p:nvPr/>
        </p:nvPicPr>
        <p:blipFill>
          <a:blip r:embed="rId3"/>
          <a:stretch/>
        </p:blipFill>
        <p:spPr>
          <a:xfrm>
            <a:off x="5452920" y="4368960"/>
            <a:ext cx="213048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2600" spc="-1" strike="noStrike">
                <a:solidFill>
                  <a:srgbClr val="9900ff"/>
                </a:solidFill>
                <a:latin typeface="Dyslexie Regular"/>
                <a:ea typeface="Dyslexie Regular"/>
              </a:rPr>
              <a:t>How would you feel if you were Rome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asted-image.tif" descr=""/>
          <p:cNvPicPr/>
          <p:nvPr/>
        </p:nvPicPr>
        <p:blipFill>
          <a:blip r:embed="rId1"/>
          <a:stretch/>
        </p:blipFill>
        <p:spPr>
          <a:xfrm>
            <a:off x="5816520" y="1347840"/>
            <a:ext cx="3281400" cy="2232000"/>
          </a:xfrm>
          <a:prstGeom prst="rect">
            <a:avLst/>
          </a:prstGeom>
          <a:ln w="0">
            <a:noFill/>
          </a:ln>
        </p:spPr>
      </p:pic>
      <p:pic>
        <p:nvPicPr>
          <p:cNvPr id="175" name="pasted-image.tif" descr=""/>
          <p:cNvPicPr/>
          <p:nvPr/>
        </p:nvPicPr>
        <p:blipFill>
          <a:blip r:embed="rId2"/>
          <a:stretch/>
        </p:blipFill>
        <p:spPr>
          <a:xfrm>
            <a:off x="5710320" y="3591000"/>
            <a:ext cx="3492360" cy="2324160"/>
          </a:xfrm>
          <a:prstGeom prst="rect">
            <a:avLst/>
          </a:prstGeom>
          <a:ln w="0">
            <a:noFill/>
          </a:ln>
        </p:spPr>
      </p:pic>
      <p:pic>
        <p:nvPicPr>
          <p:cNvPr id="176" name="pasted-image.tif" descr=""/>
          <p:cNvPicPr/>
          <p:nvPr/>
        </p:nvPicPr>
        <p:blipFill>
          <a:blip r:embed="rId3"/>
          <a:stretch/>
        </p:blipFill>
        <p:spPr>
          <a:xfrm>
            <a:off x="228600" y="1352520"/>
            <a:ext cx="5638680" cy="3168720"/>
          </a:xfrm>
          <a:prstGeom prst="rect">
            <a:avLst/>
          </a:prstGeom>
          <a:ln w="0">
            <a:noFill/>
          </a:ln>
        </p:spPr>
      </p:pic>
      <p:pic>
        <p:nvPicPr>
          <p:cNvPr id="177" name="pasted-image.tif" descr=""/>
          <p:cNvPicPr/>
          <p:nvPr/>
        </p:nvPicPr>
        <p:blipFill>
          <a:blip r:embed="rId4"/>
          <a:stretch/>
        </p:blipFill>
        <p:spPr>
          <a:xfrm>
            <a:off x="203040" y="67320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178" name="pasted-image.tif" descr=""/>
          <p:cNvPicPr/>
          <p:nvPr/>
        </p:nvPicPr>
        <p:blipFill>
          <a:blip r:embed="rId5"/>
          <a:stretch/>
        </p:blipFill>
        <p:spPr>
          <a:xfrm>
            <a:off x="1697040" y="4079880"/>
            <a:ext cx="1224000" cy="1144440"/>
          </a:xfrm>
          <a:prstGeom prst="rect">
            <a:avLst/>
          </a:prstGeom>
          <a:ln w="0">
            <a:noFill/>
          </a:ln>
        </p:spPr>
      </p:pic>
      <p:pic>
        <p:nvPicPr>
          <p:cNvPr id="179" name="pasted-image.tif" descr=""/>
          <p:cNvPicPr/>
          <p:nvPr/>
        </p:nvPicPr>
        <p:blipFill>
          <a:blip r:embed="rId6"/>
          <a:stretch/>
        </p:blipFill>
        <p:spPr>
          <a:xfrm>
            <a:off x="4349880" y="5707080"/>
            <a:ext cx="79524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pasted-image.tif" descr=""/>
          <p:cNvPicPr/>
          <p:nvPr/>
        </p:nvPicPr>
        <p:blipFill>
          <a:blip r:embed="rId7"/>
          <a:stretch/>
        </p:blipFill>
        <p:spPr>
          <a:xfrm>
            <a:off x="4013280" y="39798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81" name="pasted-image.tif" descr=""/>
          <p:cNvPicPr/>
          <p:nvPr/>
        </p:nvPicPr>
        <p:blipFill>
          <a:blip r:embed="rId8"/>
          <a:stretch/>
        </p:blipFill>
        <p:spPr>
          <a:xfrm>
            <a:off x="5506920" y="5230800"/>
            <a:ext cx="1820880" cy="1542960"/>
          </a:xfrm>
          <a:prstGeom prst="rect">
            <a:avLst/>
          </a:prstGeom>
          <a:ln w="0">
            <a:noFill/>
          </a:ln>
        </p:spPr>
      </p:pic>
      <p:pic>
        <p:nvPicPr>
          <p:cNvPr id="182" name="pasted-image.tif" descr=""/>
          <p:cNvPicPr/>
          <p:nvPr/>
        </p:nvPicPr>
        <p:blipFill>
          <a:blip r:embed="rId9"/>
          <a:stretch/>
        </p:blipFill>
        <p:spPr>
          <a:xfrm>
            <a:off x="2827440" y="4081320"/>
            <a:ext cx="1342800" cy="1344600"/>
          </a:xfrm>
          <a:prstGeom prst="rect">
            <a:avLst/>
          </a:prstGeom>
          <a:ln w="0">
            <a:noFill/>
          </a:ln>
        </p:spPr>
      </p:pic>
      <p:pic>
        <p:nvPicPr>
          <p:cNvPr id="183" name="pasted-image.tif" descr=""/>
          <p:cNvPicPr/>
          <p:nvPr/>
        </p:nvPicPr>
        <p:blipFill>
          <a:blip r:embed="rId10"/>
          <a:stretch/>
        </p:blipFill>
        <p:spPr>
          <a:xfrm>
            <a:off x="8077320" y="581040"/>
            <a:ext cx="1046160" cy="1047600"/>
          </a:xfrm>
          <a:prstGeom prst="rect">
            <a:avLst/>
          </a:prstGeom>
          <a:ln w="0">
            <a:noFill/>
          </a:ln>
        </p:spPr>
      </p:pic>
      <p:pic>
        <p:nvPicPr>
          <p:cNvPr id="184" name="pasted-image.tif" descr=""/>
          <p:cNvPicPr/>
          <p:nvPr/>
        </p:nvPicPr>
        <p:blipFill>
          <a:blip r:embed="rId11"/>
          <a:stretch/>
        </p:blipFill>
        <p:spPr>
          <a:xfrm>
            <a:off x="157320" y="4089240"/>
            <a:ext cx="1650960" cy="2649600"/>
          </a:xfrm>
          <a:prstGeom prst="rect">
            <a:avLst/>
          </a:prstGeom>
          <a:ln w="0">
            <a:noFill/>
          </a:ln>
        </p:spPr>
      </p:pic>
      <p:pic>
        <p:nvPicPr>
          <p:cNvPr id="185" name="pasted-image.tif" descr=""/>
          <p:cNvPicPr/>
          <p:nvPr/>
        </p:nvPicPr>
        <p:blipFill>
          <a:blip r:embed="rId12"/>
          <a:stretch/>
        </p:blipFill>
        <p:spPr>
          <a:xfrm>
            <a:off x="1289160" y="766800"/>
            <a:ext cx="2187360" cy="1638360"/>
          </a:xfrm>
          <a:prstGeom prst="rect">
            <a:avLst/>
          </a:prstGeom>
          <a:ln w="0">
            <a:noFill/>
          </a:ln>
        </p:spPr>
      </p:pic>
      <p:pic>
        <p:nvPicPr>
          <p:cNvPr id="186" name="pasted-image.tif" descr=""/>
          <p:cNvPicPr/>
          <p:nvPr/>
        </p:nvPicPr>
        <p:blipFill>
          <a:blip r:embed="rId13"/>
          <a:stretch/>
        </p:blipFill>
        <p:spPr>
          <a:xfrm>
            <a:off x="7369200" y="5614920"/>
            <a:ext cx="1820880" cy="1233720"/>
          </a:xfrm>
          <a:prstGeom prst="rect">
            <a:avLst/>
          </a:prstGeom>
          <a:ln w="0">
            <a:noFill/>
          </a:ln>
        </p:spPr>
      </p:pic>
      <p:pic>
        <p:nvPicPr>
          <p:cNvPr id="187" name="pasted-image.tif" descr=""/>
          <p:cNvPicPr/>
          <p:nvPr/>
        </p:nvPicPr>
        <p:blipFill>
          <a:blip r:embed="rId14"/>
          <a:stretch/>
        </p:blipFill>
        <p:spPr>
          <a:xfrm>
            <a:off x="1833480" y="5284800"/>
            <a:ext cx="215424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9480" y="20160"/>
            <a:ext cx="47685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41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Ok, let’s die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84280" y="1928880"/>
            <a:ext cx="4619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comes back to Verona with a very strong poiso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30640" y="2998800"/>
            <a:ext cx="4902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enters the tomb and finds Juliet dead. He says his last words (blablabla) and d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7040" y="4743360"/>
            <a:ext cx="51483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Juliet wakes up to find Romeo dead next to her. She stabs herself with Romeo’s dagger and she dies, to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asted-image.tif" descr=""/>
          <p:cNvPicPr/>
          <p:nvPr/>
        </p:nvPicPr>
        <p:blipFill>
          <a:blip r:embed="rId1"/>
          <a:stretch/>
        </p:blipFill>
        <p:spPr>
          <a:xfrm>
            <a:off x="6264360" y="977760"/>
            <a:ext cx="1347840" cy="1903680"/>
          </a:xfrm>
          <a:prstGeom prst="rect">
            <a:avLst/>
          </a:prstGeom>
          <a:ln w="0">
            <a:noFill/>
          </a:ln>
        </p:spPr>
      </p:pic>
      <p:pic>
        <p:nvPicPr>
          <p:cNvPr id="193" name="pasted-image.tif" descr=""/>
          <p:cNvPicPr/>
          <p:nvPr/>
        </p:nvPicPr>
        <p:blipFill>
          <a:blip r:embed="rId2"/>
          <a:stretch/>
        </p:blipFill>
        <p:spPr>
          <a:xfrm>
            <a:off x="477720" y="2925720"/>
            <a:ext cx="3648240" cy="1523880"/>
          </a:xfrm>
          <a:prstGeom prst="rect">
            <a:avLst/>
          </a:prstGeom>
          <a:ln w="0">
            <a:noFill/>
          </a:ln>
        </p:spPr>
      </p:pic>
      <p:pic>
        <p:nvPicPr>
          <p:cNvPr id="194" name="pasted-image.tif" descr=""/>
          <p:cNvPicPr/>
          <p:nvPr/>
        </p:nvPicPr>
        <p:blipFill>
          <a:blip r:embed="rId3"/>
          <a:stretch/>
        </p:blipFill>
        <p:spPr>
          <a:xfrm>
            <a:off x="5997600" y="4537080"/>
            <a:ext cx="2262240" cy="1903320"/>
          </a:xfrm>
          <a:prstGeom prst="rect">
            <a:avLst/>
          </a:prstGeom>
          <a:ln w="0">
            <a:noFill/>
          </a:ln>
        </p:spPr>
      </p:pic>
      <p:pic>
        <p:nvPicPr>
          <p:cNvPr id="195" name="pasted-image.tif" descr=""/>
          <p:cNvPicPr/>
          <p:nvPr/>
        </p:nvPicPr>
        <p:blipFill>
          <a:blip r:embed="rId4"/>
          <a:stretch/>
        </p:blipFill>
        <p:spPr>
          <a:xfrm>
            <a:off x="217440" y="95400"/>
            <a:ext cx="17956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0600" y="20520"/>
            <a:ext cx="579744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29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All well that ends well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7040" y="901800"/>
            <a:ext cx="533556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Of course, this is a tragedy, because the protagonists di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ut there is one positive th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41720" y="2822400"/>
            <a:ext cx="49021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hen the Capulets and the Montagues learn what happened with their children, they agree to end the years of fight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8200" y="4908600"/>
            <a:ext cx="51480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Prince Escalus hopes that the story of Romeo and Juliet will help to keep Verona a peaceful pl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asted-image.tif" descr=""/>
          <p:cNvPicPr/>
          <p:nvPr/>
        </p:nvPicPr>
        <p:blipFill>
          <a:blip r:embed="rId1"/>
          <a:stretch/>
        </p:blipFill>
        <p:spPr>
          <a:xfrm>
            <a:off x="5954760" y="820800"/>
            <a:ext cx="2017800" cy="2019240"/>
          </a:xfrm>
          <a:prstGeom prst="rect">
            <a:avLst/>
          </a:prstGeom>
          <a:ln w="0">
            <a:noFill/>
          </a:ln>
        </p:spPr>
      </p:pic>
      <p:pic>
        <p:nvPicPr>
          <p:cNvPr id="201" name="pasted-image.tif" descr=""/>
          <p:cNvPicPr/>
          <p:nvPr/>
        </p:nvPicPr>
        <p:blipFill>
          <a:blip r:embed="rId2"/>
          <a:stretch/>
        </p:blipFill>
        <p:spPr>
          <a:xfrm>
            <a:off x="968400" y="2530440"/>
            <a:ext cx="2452680" cy="1998720"/>
          </a:xfrm>
          <a:prstGeom prst="rect">
            <a:avLst/>
          </a:prstGeom>
          <a:ln w="0">
            <a:noFill/>
          </a:ln>
        </p:spPr>
      </p:pic>
      <p:pic>
        <p:nvPicPr>
          <p:cNvPr id="202" name="pasted-image.tif" descr=""/>
          <p:cNvPicPr/>
          <p:nvPr/>
        </p:nvPicPr>
        <p:blipFill>
          <a:blip r:embed="rId3"/>
          <a:stretch/>
        </p:blipFill>
        <p:spPr>
          <a:xfrm>
            <a:off x="6627960" y="4695840"/>
            <a:ext cx="156672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Dyslexie Regular"/>
                <a:ea typeface="Dyslexie Regular"/>
              </a:rPr>
              <a:t>Make a list of all the characters and revise the st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92520" y="3634920"/>
            <a:ext cx="300852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ff6c3d"/>
                </a:solidFill>
                <a:latin typeface="Dyslexie Regular"/>
                <a:ea typeface="Dyslexie Regular"/>
              </a:rPr>
              <a:t>Montag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45240" y="3724200"/>
            <a:ext cx="2227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ff59ec"/>
                </a:solidFill>
                <a:latin typeface="Dyslexie Regular"/>
                <a:ea typeface="Dyslexie Regular"/>
              </a:rPr>
              <a:t>Capul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4200" y="2454120"/>
            <a:ext cx="30085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ae4bff"/>
                </a:solidFill>
                <a:latin typeface="Dyslexie Regular"/>
                <a:ea typeface="Dyslexie Regular"/>
              </a:rPr>
              <a:t>Protagoni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4520" y="2330280"/>
            <a:ext cx="279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700" spc="-1" strike="noStrike">
                <a:solidFill>
                  <a:srgbClr val="ae4bff"/>
                </a:solidFill>
                <a:latin typeface="Dyslexie Regular"/>
                <a:ea typeface="Dyslexie Regular"/>
              </a:rPr>
              <a:t>Antagoni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06840" y="3122640"/>
            <a:ext cx="1928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4c3ffc"/>
                </a:solidFill>
                <a:latin typeface="Dyslexie Regular"/>
                <a:ea typeface="Dyslexie Regular"/>
              </a:rPr>
              <a:t>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52760" y="4627440"/>
            <a:ext cx="192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3bd263"/>
                </a:solidFill>
                <a:latin typeface="Dyslexie Regular"/>
                <a:ea typeface="Dyslexie Regular"/>
              </a:rPr>
              <a:t>Hel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6240" y="4626000"/>
            <a:ext cx="19285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d98b7"/>
                </a:solidFill>
                <a:latin typeface="Dyslexie Regular"/>
                <a:ea typeface="Dyslexie Regular"/>
              </a:rPr>
              <a:t>Helping obje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69680" y="5022720"/>
            <a:ext cx="1378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4c3ffc"/>
                </a:solidFill>
                <a:latin typeface="Dyslexie Regular"/>
                <a:ea typeface="Dyslexie Regular"/>
              </a:rPr>
              <a:t>Villain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70160" y="5753160"/>
            <a:ext cx="279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600" spc="-1" strike="noStrike">
                <a:solidFill>
                  <a:srgbClr val="decf24"/>
                </a:solidFill>
                <a:latin typeface="Dyslexie Regular"/>
                <a:ea typeface="Dyslexie Regular"/>
              </a:rPr>
              <a:t>Good charac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1776240"/>
            <a:ext cx="192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0" lang="en-US" sz="2600" spc="-1" strike="noStrike">
                <a:solidFill>
                  <a:srgbClr val="2ff9e7"/>
                </a:solidFill>
                <a:latin typeface="Dyslexie Regular"/>
                <a:ea typeface="Dyslexie Regular"/>
              </a:rPr>
              <a:t>Auth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asted-image.tif" descr=""/>
          <p:cNvPicPr/>
          <p:nvPr/>
        </p:nvPicPr>
        <p:blipFill>
          <a:blip r:embed="rId1"/>
          <a:stretch/>
        </p:blipFill>
        <p:spPr>
          <a:xfrm>
            <a:off x="44280" y="131760"/>
            <a:ext cx="9587160" cy="6084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5400" y="355680"/>
            <a:ext cx="28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bda"/>
                </a:solidFill>
                <a:latin typeface="Dyslexie Regular"/>
                <a:ea typeface="Dyslexie Regular"/>
              </a:rPr>
              <a:t>Now you know interesting facts about Romeo and Juliet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560" y="69840"/>
            <a:ext cx="858024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PROLO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703080"/>
            <a:ext cx="83977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WO HOUSEHOLDS: Two famil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OTH ALIKE IN DIGNITY: They were similar in power and respe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IN FAIR VERONA: In the nice Ver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HERE WE LAY OUR SCENE: Where the story takes pl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FROM ANCIENT GRUDGE: From an old h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REAK TO NEW MUTINITY: They start another f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HERE CIVIL BLOOD: Where the blood of the peop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AKES CIVIL HANDS UNCLEAN: Makes people’s hands dir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asted-image.tif" descr=""/>
          <p:cNvPicPr/>
          <p:nvPr/>
        </p:nvPicPr>
        <p:blipFill>
          <a:blip r:embed="rId1"/>
          <a:stretch/>
        </p:blipFill>
        <p:spPr>
          <a:xfrm>
            <a:off x="5565600" y="4762440"/>
            <a:ext cx="2865600" cy="20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" y="6120"/>
            <a:ext cx="85806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asted-image.tif" descr=""/>
          <p:cNvPicPr/>
          <p:nvPr/>
        </p:nvPicPr>
        <p:blipFill>
          <a:blip r:embed="rId1"/>
          <a:stretch/>
        </p:blipFill>
        <p:spPr>
          <a:xfrm>
            <a:off x="658800" y="542880"/>
            <a:ext cx="808056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1811160"/>
            <a:ext cx="8208720" cy="40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ona,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47760" y="324000"/>
            <a:ext cx="66470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0" lang="en-US" sz="3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WHE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asted-image.tif" descr=""/>
          <p:cNvPicPr/>
          <p:nvPr/>
        </p:nvPicPr>
        <p:blipFill>
          <a:blip r:embed="rId1"/>
          <a:stretch/>
        </p:blipFill>
        <p:spPr>
          <a:xfrm>
            <a:off x="4883040" y="1523880"/>
            <a:ext cx="367056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31840" y="771120"/>
            <a:ext cx="8680320" cy="55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In Verona, there are two important famili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 MONTAGUES and THE CAPUL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y  are riv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ir servants, are rivals, too!  If they meet, they start to figh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So, streets in Verona aren’t calm when Capulets and Montagues mee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People are afrai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 Prince of Verona makes a warn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Next time you make troubles, I will sentence you to death!!!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asted-image.tif" descr=""/>
          <p:cNvPicPr/>
          <p:nvPr/>
        </p:nvPicPr>
        <p:blipFill>
          <a:blip r:embed="rId1"/>
          <a:stretch/>
        </p:blipFill>
        <p:spPr>
          <a:xfrm>
            <a:off x="6060960" y="3828960"/>
            <a:ext cx="2395800" cy="149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560" y="69840"/>
            <a:ext cx="8580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8800"/>
                <a:tab algn="l" pos="777960"/>
                <a:tab algn="l" pos="1166760"/>
                <a:tab algn="l" pos="1555920"/>
                <a:tab algn="l" pos="1944720"/>
                <a:tab algn="l" pos="2333520"/>
                <a:tab algn="l" pos="2722680"/>
                <a:tab algn="l" pos="3111480"/>
                <a:tab algn="l" pos="3500280"/>
                <a:tab algn="l" pos="3889440"/>
                <a:tab algn="l" pos="4278240"/>
                <a:tab algn="l" pos="4667400"/>
                <a:tab algn="l" pos="5056200"/>
                <a:tab algn="l" pos="5445000"/>
                <a:tab algn="l" pos="5834160"/>
                <a:tab algn="l" pos="6222960"/>
                <a:tab algn="l" pos="6611760"/>
                <a:tab algn="l" pos="7000920"/>
                <a:tab algn="l" pos="7389720"/>
                <a:tab algn="l" pos="7778880"/>
              </a:tabLst>
            </a:pPr>
            <a:r>
              <a:rPr b="0" lang="en-US" sz="3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THE STARTING POIN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31840" y="771480"/>
            <a:ext cx="8680320" cy="57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 is the son of old Monta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is a very romantic bo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is in love with a girl, Rosaline, but she doesn’t love him b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He is very sad and tells his pain to his cousin, BENVOLIO, and his best friend, MERCUTIO. They invite Romeo to forget Rosal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Don’t think about her anymore! You’re wasting your time with her!” Good ad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But Romeo is a romantic bo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1320" y="108000"/>
            <a:ext cx="4435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en-US" sz="28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ROMEO, ROME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asted-image.tif" descr=""/>
          <p:cNvPicPr/>
          <p:nvPr/>
        </p:nvPicPr>
        <p:blipFill>
          <a:blip r:embed="rId1"/>
          <a:stretch/>
        </p:blipFill>
        <p:spPr>
          <a:xfrm>
            <a:off x="6591240" y="-22320"/>
            <a:ext cx="243216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0680" y="1876320"/>
            <a:ext cx="816120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Romeo’s companions, MERCUTIO and BENVOLIO,  are smart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y are very intelligent and happy peopl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They convince ROMEO to go to the Masquerade at the Capulets’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Mercutio and Benvolio say “Hey, there’s a masquerade party at the Capulets’! Let’s go there! We can have fun”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Dyslexie Regular"/>
                <a:ea typeface="Dyslexie Regular"/>
              </a:rPr>
              <a:t>Who cares about the danger of being their enemies, their rivals?… Boys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84240" y="57240"/>
            <a:ext cx="560556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</a:tabLst>
            </a:pPr>
            <a:r>
              <a:rPr b="0" lang="en-US" sz="31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FRIENDS WILL BE FRIENDS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asted-image.tif" descr=""/>
          <p:cNvPicPr/>
          <p:nvPr/>
        </p:nvPicPr>
        <p:blipFill>
          <a:blip r:embed="rId1"/>
          <a:stretch/>
        </p:blipFill>
        <p:spPr>
          <a:xfrm>
            <a:off x="5448240" y="57240"/>
            <a:ext cx="35035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asted-image.tif" descr=""/>
          <p:cNvPicPr/>
          <p:nvPr/>
        </p:nvPicPr>
        <p:blipFill>
          <a:blip r:embed="rId1"/>
          <a:stretch/>
        </p:blipFill>
        <p:spPr>
          <a:xfrm>
            <a:off x="722160" y="336600"/>
            <a:ext cx="7697880" cy="605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6760" y="120600"/>
            <a:ext cx="58244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0" spc="-1" strike="noStrike">
                <a:solidFill>
                  <a:srgbClr val="e759f4"/>
                </a:solidFill>
                <a:latin typeface="Dyslexie Regular"/>
                <a:ea typeface="Dyslexie Regular"/>
              </a:rPr>
              <a:t>QUEEN M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3440" y="1979640"/>
            <a:ext cx="349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795ff4"/>
                </a:solidFill>
                <a:latin typeface="Dyslexie Regular"/>
                <a:ea typeface="Dyslexie Regular"/>
              </a:rPr>
              <a:t>Mercutio tells the story of Queen Ma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16520" y="2589120"/>
            <a:ext cx="243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c13af4"/>
                </a:solidFill>
                <a:latin typeface="Dyslexie Regular"/>
                <a:ea typeface="Dyslexie Regular"/>
              </a:rPr>
              <a:t>She is a fai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3440" y="4633920"/>
            <a:ext cx="3492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f739bd"/>
                </a:solidFill>
                <a:latin typeface="Dyslexie Regular"/>
                <a:ea typeface="Dyslexie Regular"/>
              </a:rPr>
              <a:t>She has the power to drive men crazy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asted-image.tif" descr=""/>
          <p:cNvPicPr/>
          <p:nvPr/>
        </p:nvPicPr>
        <p:blipFill>
          <a:blip r:embed="rId2"/>
          <a:stretch/>
        </p:blipFill>
        <p:spPr>
          <a:xfrm>
            <a:off x="6161040" y="4665600"/>
            <a:ext cx="2817720" cy="1755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80000" y="3524400"/>
            <a:ext cx="2179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100" spc="-1" strike="noStrike">
                <a:solidFill>
                  <a:srgbClr val="25256f"/>
                </a:solidFill>
                <a:latin typeface="Dyslexie Regular"/>
                <a:ea typeface="Dyslexie Regular"/>
              </a:rPr>
              <a:t>She gets into dream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